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409D-ACDB-4471-8011-A21956986C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D1F6-8C7B-4179-92B9-F213217552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46E8-B96A-4DAC-A1E7-379C82FBCA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6561-8C86-43CB-A200-BEF250BBEF9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2340-A54C-4E06-ABC6-A907655C5F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6BCA-245F-4B70-B1CA-062C4ED5D60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A852-A733-4B88-8CBF-566B50167E6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BC40-BBD1-4C85-93AD-5811CB3CBA6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ABC5-C32B-4803-85ED-1C3F300489C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9D8E-B2B2-4615-A2F0-A18FB08C2D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ADD1-443E-4D83-BC73-8158587CBF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449E-8884-4747-9507-10A6BCF4CC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67F3-479F-463A-B970-B3DF7D9953C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B7EB-F479-4B17-8D22-02A03D0CD4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933C-9ECF-4AF4-9AA7-4DD8D7BE9B7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B93A-4C3E-48CF-9885-EFA11DBEA2C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B65E-3AA9-4047-BA87-C1ECC13A99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4A7B-2835-41D5-8CF3-7286CC07DB9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8BD5-B28D-4CD1-85DF-22D7A81288D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C835-710E-42FF-A2ED-B0CCFA57E5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ldImg"/>
          </p:nvPr>
        </p:nvSpPr>
        <p:spPr>
          <a:xfrm>
            <a:off x="920880" y="750960"/>
            <a:ext cx="4940280" cy="370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3E8-6CD6-4A36-8D14-61795C94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34F-48B7-411E-8F38-DC72A008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2B7-A019-4AD6-9DB1-9E185C61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DCA-D151-44FC-914B-194AD7A5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561-F87D-493C-8489-FAC8CCAF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FF1B-6AC0-4A09-A245-67C3E1B4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407B-42C7-4453-952D-2E669B17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BEF7-DE3F-437C-99A8-393A34C7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1005-E3F1-49F5-B3C6-470F7FCE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12E9-FC63-4944-8074-D37BF5FB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F53F-2DFE-434F-B51B-7A06DFCC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D91-78E6-4FFD-9814-3D536BD7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BC97-4B75-4356-9402-7B753D8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3085-9E0F-4C98-841D-166D9AE0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09FA-EBDB-4B6A-B087-A2BD30FE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3923-AFE8-4B9A-AC38-CD498302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7E71-3718-4D19-A041-A12F825B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7E8-91E8-4C08-B2BE-C74D6539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A09-13E1-43ED-BD5F-8EC72F80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30E-08FC-4BBC-840C-78543788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731-BEB5-440E-ADF6-0867F9BD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704-BF0E-4B43-89E2-DB7AD93E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D8F-595B-48C4-B243-91C5A755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D33-A78A-478F-B201-F9D36C3E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7588-58C0-4605-AB21-C0FCD21841E6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1F64-EC26-4EAC-AD9D-8007D691EF56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La Unità Aritmetico Logic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17B2-426F-46E4-B7BB-BC1526C518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2280" y="1336680"/>
            <a:ext cx="7993800" cy="492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Visto che la sottrazione viene ricondotta ad una somma, possiamo affermare c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Se il penultimo riporto e l’ultimo riporto coincidono il risultato è corretto, altrimenti è scorret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pp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Se XOR(c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)=1, il risultato è scorretto. Si è verificato un overflow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Controllare l’Over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502080" y="693720"/>
            <a:ext cx="2855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8120" y="1880280"/>
            <a:ext cx="790776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’Overflow avviene quando il valore del segno viene alter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la somma di due numeri positivi porta ad un numero neg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, la somma di due negativi dà un pos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nsideriamo le operazioni A + B e A –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overflow può accadere se B è 0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se A è 0 ?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Controllare l’Over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5360" y="3128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1840" y="1573920"/>
            <a:ext cx="790776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ruiamo una ALU che supporti le operazioni di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ruiamo una ALU ad un bit e ne utilizziamo 32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e Implementazione (somma di prodot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39960" y="3303720"/>
            <a:ext cx="55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9960" y="2889360"/>
            <a:ext cx="550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49200" y="2135160"/>
            <a:ext cx="3097440" cy="1673280"/>
            <a:chOff x="1249200" y="2135160"/>
            <a:chExt cx="3097440" cy="1673280"/>
          </a:xfrm>
        </p:grpSpPr>
        <p:sp>
          <p:nvSpPr>
            <p:cNvPr id="217" name=""/>
            <p:cNvSpPr/>
            <p:nvPr/>
          </p:nvSpPr>
          <p:spPr>
            <a:xfrm>
              <a:off x="1809720" y="2793960"/>
              <a:ext cx="789120" cy="101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49200" y="346392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54320" y="245736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92480" y="2135160"/>
              <a:ext cx="20541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49200" y="312588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02080" y="323856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93920" y="2925720"/>
              <a:ext cx="8017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59400" y="2181240"/>
            <a:ext cx="1815840" cy="2074680"/>
            <a:chOff x="4559400" y="2181240"/>
            <a:chExt cx="1815840" cy="2074680"/>
          </a:xfrm>
        </p:grpSpPr>
        <p:sp>
          <p:nvSpPr>
            <p:cNvPr id="225" name=""/>
            <p:cNvSpPr/>
            <p:nvPr/>
          </p:nvSpPr>
          <p:spPr>
            <a:xfrm>
              <a:off x="4960800" y="2379600"/>
              <a:ext cx="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9200" y="2379600"/>
              <a:ext cx="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32480" y="2595600"/>
              <a:ext cx="13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699160" y="2379600"/>
              <a:ext cx="38160" cy="1876320"/>
              <a:chOff x="5699160" y="2379600"/>
              <a:chExt cx="38160" cy="1876320"/>
            </a:xfrm>
          </p:grpSpPr>
          <p:sp>
            <p:nvSpPr>
              <p:cNvPr id="229" name=""/>
              <p:cNvSpPr/>
              <p:nvPr/>
            </p:nvSpPr>
            <p:spPr>
              <a:xfrm>
                <a:off x="5699160" y="2379600"/>
                <a:ext cx="0" cy="18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37320" y="2379600"/>
                <a:ext cx="0" cy="18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455940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84920" y="2181240"/>
              <a:ext cx="5522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1188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24440" y="2181240"/>
              <a:ext cx="5508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277040" y="1643040"/>
            <a:ext cx="824040" cy="5099040"/>
            <a:chOff x="7277040" y="1643040"/>
            <a:chExt cx="824040" cy="5099040"/>
          </a:xfrm>
        </p:grpSpPr>
        <p:grpSp>
          <p:nvGrpSpPr>
            <p:cNvPr id="236" name=""/>
            <p:cNvGrpSpPr/>
            <p:nvPr/>
          </p:nvGrpSpPr>
          <p:grpSpPr>
            <a:xfrm>
              <a:off x="7277040" y="1643040"/>
              <a:ext cx="824040" cy="2165400"/>
              <a:chOff x="7277040" y="1643040"/>
              <a:chExt cx="824040" cy="21654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277040" y="1643040"/>
                <a:ext cx="824040" cy="473040"/>
                <a:chOff x="7277040" y="1643040"/>
                <a:chExt cx="824040" cy="4730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524720" y="175248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277040" y="199692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718400" y="164304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277040" y="187164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878960" y="1909800"/>
                  <a:ext cx="222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7277040" y="2206440"/>
                <a:ext cx="824040" cy="473040"/>
                <a:chOff x="7277040" y="2206440"/>
                <a:chExt cx="824040" cy="4730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524720" y="2316240"/>
                  <a:ext cx="35100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277040" y="256068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718400" y="220644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277040" y="243504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878960" y="2473200"/>
                  <a:ext cx="222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277040" y="2771640"/>
                <a:ext cx="824040" cy="473040"/>
                <a:chOff x="7277040" y="2771640"/>
                <a:chExt cx="824040" cy="4730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524720" y="288108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277040" y="312552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718400" y="277164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277040" y="300024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878960" y="3036960"/>
                  <a:ext cx="222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277040" y="3335400"/>
                <a:ext cx="824040" cy="473040"/>
                <a:chOff x="7277040" y="3335400"/>
                <a:chExt cx="82404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524720" y="344484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277040" y="368928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718400" y="333540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277040" y="356400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78960" y="3601800"/>
                  <a:ext cx="222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"/>
            <p:cNvGrpSpPr/>
            <p:nvPr/>
          </p:nvGrpSpPr>
          <p:grpSpPr>
            <a:xfrm>
              <a:off x="7277040" y="4576680"/>
              <a:ext cx="824040" cy="2165400"/>
              <a:chOff x="7277040" y="4576680"/>
              <a:chExt cx="824040" cy="21654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7277040" y="4576680"/>
                <a:ext cx="824040" cy="473040"/>
                <a:chOff x="7277040" y="4576680"/>
                <a:chExt cx="824040" cy="4730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524720" y="468612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277040" y="493056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718400" y="457668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277040" y="480528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878960" y="4843440"/>
                  <a:ext cx="222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7277040" y="5140080"/>
                <a:ext cx="824040" cy="473400"/>
                <a:chOff x="7277040" y="5140080"/>
                <a:chExt cx="824040" cy="4734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7524720" y="524988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277040" y="549432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718400" y="514008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277040" y="536868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878960" y="5406840"/>
                  <a:ext cx="222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7277040" y="5705280"/>
                <a:ext cx="824040" cy="473040"/>
                <a:chOff x="7277040" y="5705280"/>
                <a:chExt cx="824040" cy="4730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7524720" y="5815080"/>
                  <a:ext cx="351000" cy="363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277040" y="605952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718400" y="570528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277040" y="593388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878960" y="5970600"/>
                  <a:ext cx="222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277040" y="6269040"/>
                <a:ext cx="824040" cy="473040"/>
                <a:chOff x="7277040" y="6269040"/>
                <a:chExt cx="824040" cy="473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524720" y="6378480"/>
                  <a:ext cx="351000" cy="363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277040" y="662292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718400" y="6269040"/>
                  <a:ext cx="0" cy="96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277040" y="649764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78960" y="6535800"/>
                  <a:ext cx="222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Una ALU (arithmetic logic uni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5360" y="312840"/>
            <a:ext cx="364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76000" y="2376000"/>
            <a:ext cx="7992000" cy="302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le linee di controllo seleziono quale degli input sarà l’output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struiamo la nostra ALU utilizzando un multiplexer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27160" y="2565360"/>
            <a:ext cx="2367000" cy="1836720"/>
            <a:chOff x="1127160" y="2565360"/>
            <a:chExt cx="2367000" cy="1836720"/>
          </a:xfrm>
        </p:grpSpPr>
        <p:sp>
          <p:nvSpPr>
            <p:cNvPr id="290" name=""/>
            <p:cNvSpPr/>
            <p:nvPr/>
          </p:nvSpPr>
          <p:spPr>
            <a:xfrm>
              <a:off x="1973160" y="3348000"/>
              <a:ext cx="338400" cy="1054080"/>
            </a:xfrm>
            <a:custGeom>
              <a:avLst/>
              <a:gdLst>
                <a:gd name="textAreaLeft" fmla="*/ 45720 w 338400"/>
                <a:gd name="textAreaRight" fmla="*/ 292680 w 338400"/>
                <a:gd name="textAreaTop" fmla="*/ 45720 h 1054080"/>
                <a:gd name="textAreaBottom" fmla="*/ 1008360 h 1054080"/>
              </a:gdLst>
              <a:ahLst/>
              <a:rect l="textAreaLeft" t="textAreaTop" r="textAreaRight" b="textAreaBottom"/>
              <a:pathLst>
                <a:path w="21600" h="67233">
                  <a:moveTo>
                    <a:pt x="10025" y="0"/>
                  </a:moveTo>
                  <a:arcTo wR="10025" hR="10025" stAng="16200000" swAng="-5400000"/>
                  <a:lnTo>
                    <a:pt x="0" y="57208"/>
                  </a:lnTo>
                  <a:arcTo wR="10025" hR="10025" stAng="10800000" swAng="-5400000"/>
                  <a:lnTo>
                    <a:pt x="11575" y="67233"/>
                  </a:lnTo>
                  <a:arcTo wR="10025" hR="10025" stAng="5400000" swAng="-5400000"/>
                  <a:lnTo>
                    <a:pt x="21600" y="10025"/>
                  </a:lnTo>
                  <a:arcTo wR="10025" hR="10025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13000" y="401940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41640" y="300024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03400" y="256536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13000" y="368136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27400" y="388152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17800" y="3567240"/>
              <a:ext cx="5763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27160" y="339228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39760" y="3743280"/>
              <a:ext cx="57636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043000" y="2685960"/>
            <a:ext cx="500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43000" y="3035160"/>
            <a:ext cx="5000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Il Multiplex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35520" y="2719440"/>
            <a:ext cx="4505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nota: si chiama multiplexer a 2 input (a 2 v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anche se ha 3 inp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5360" y="312840"/>
            <a:ext cx="382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18120" y="1482840"/>
            <a:ext cx="7907760" cy="408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ommatore ad un bit è il seguente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iamo costruire una ALU a 1-bit per add, and e o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iamo costruire una ALU a 32 bit ?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giungiamo la som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85440" y="2781360"/>
            <a:ext cx="3341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= a b + a c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+ b c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m = a xor b xor c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Courier New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819440" y="2349360"/>
            <a:ext cx="1566720" cy="15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5360" y="312840"/>
            <a:ext cx="314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Implementazione della ALU a 32 bi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3673440" cy="3816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3168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25360" y="312840"/>
            <a:ext cx="496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11840" y="1717920"/>
            <a:ext cx="7907760" cy="408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le proprietà del Complemento a 2, la differenza si ottiene negando b e sommand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buona solu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 per la differenza  (a – b) 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843280" y="2708280"/>
            <a:ext cx="43927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25360" y="312840"/>
            <a:ext cx="4346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18120" y="1880280"/>
            <a:ext cx="790776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obbiamo supportare anche una istruzione di confronto (s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3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struzione di confronto slt è considerata una istruzione aritme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3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duce  1 se a &lt; b,  0 altri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3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-b) &lt; 0 implica che a &lt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obbiamo supportare il test di uguagli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3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-b) = 0 implica a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ALU per il MI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Supportare sl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440" y="611496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08000" y="2205000"/>
            <a:ext cx="4316040" cy="3628800"/>
            <a:chOff x="108000" y="2205000"/>
            <a:chExt cx="4316040" cy="3628800"/>
          </a:xfrm>
        </p:grpSpPr>
        <p:sp>
          <p:nvSpPr>
            <p:cNvPr id="322" name=""/>
            <p:cNvSpPr/>
            <p:nvPr/>
          </p:nvSpPr>
          <p:spPr>
            <a:xfrm>
              <a:off x="1638000" y="4078080"/>
              <a:ext cx="70200" cy="784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2"/>
                  </a:lnTo>
                  <a:lnTo>
                    <a:pt x="15" y="3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669320" y="2409840"/>
              <a:ext cx="2160" cy="16772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07040" y="2999520"/>
              <a:ext cx="459360" cy="394920"/>
            </a:xfrm>
            <a:custGeom>
              <a:avLst/>
              <a:gdLst/>
              <a:ahLst/>
              <a:rect l="l" t="t" r="r" b="b"/>
              <a:pathLst>
                <a:path w="201" h="167">
                  <a:moveTo>
                    <a:pt x="119" y="167"/>
                  </a:moveTo>
                  <a:lnTo>
                    <a:pt x="134" y="167"/>
                  </a:lnTo>
                  <a:lnTo>
                    <a:pt x="145" y="163"/>
                  </a:lnTo>
                  <a:lnTo>
                    <a:pt x="157" y="157"/>
                  </a:lnTo>
                  <a:lnTo>
                    <a:pt x="168" y="152"/>
                  </a:lnTo>
                  <a:lnTo>
                    <a:pt x="178" y="142"/>
                  </a:lnTo>
                  <a:lnTo>
                    <a:pt x="186" y="133"/>
                  </a:lnTo>
                  <a:lnTo>
                    <a:pt x="193" y="123"/>
                  </a:lnTo>
                  <a:lnTo>
                    <a:pt x="197" y="110"/>
                  </a:lnTo>
                  <a:lnTo>
                    <a:pt x="201" y="98"/>
                  </a:lnTo>
                  <a:lnTo>
                    <a:pt x="201" y="85"/>
                  </a:lnTo>
                  <a:lnTo>
                    <a:pt x="201" y="71"/>
                  </a:lnTo>
                  <a:lnTo>
                    <a:pt x="197" y="58"/>
                  </a:lnTo>
                  <a:lnTo>
                    <a:pt x="193" y="46"/>
                  </a:lnTo>
                  <a:lnTo>
                    <a:pt x="186" y="35"/>
                  </a:lnTo>
                  <a:lnTo>
                    <a:pt x="178" y="25"/>
                  </a:lnTo>
                  <a:lnTo>
                    <a:pt x="168" y="16"/>
                  </a:lnTo>
                  <a:lnTo>
                    <a:pt x="157" y="10"/>
                  </a:lnTo>
                  <a:lnTo>
                    <a:pt x="145" y="4"/>
                  </a:lnTo>
                  <a:lnTo>
                    <a:pt x="134" y="2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120" y="167"/>
                  </a:lnTo>
                  <a:lnTo>
                    <a:pt x="120" y="1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60600" y="3512520"/>
              <a:ext cx="527400" cy="392040"/>
            </a:xfrm>
            <a:custGeom>
              <a:avLst/>
              <a:gdLst/>
              <a:ahLst/>
              <a:rect l="l" t="t" r="r" b="b"/>
              <a:pathLst>
                <a:path w="231" h="167">
                  <a:moveTo>
                    <a:pt x="23" y="84"/>
                  </a:moveTo>
                  <a:lnTo>
                    <a:pt x="23" y="96"/>
                  </a:lnTo>
                  <a:lnTo>
                    <a:pt x="21" y="105"/>
                  </a:lnTo>
                  <a:lnTo>
                    <a:pt x="21" y="113"/>
                  </a:lnTo>
                  <a:lnTo>
                    <a:pt x="19" y="121"/>
                  </a:lnTo>
                  <a:lnTo>
                    <a:pt x="19" y="128"/>
                  </a:lnTo>
                  <a:lnTo>
                    <a:pt x="17" y="134"/>
                  </a:lnTo>
                  <a:lnTo>
                    <a:pt x="13" y="142"/>
                  </a:lnTo>
                  <a:lnTo>
                    <a:pt x="9" y="147"/>
                  </a:lnTo>
                  <a:lnTo>
                    <a:pt x="6" y="157"/>
                  </a:lnTo>
                  <a:lnTo>
                    <a:pt x="0" y="165"/>
                  </a:lnTo>
                  <a:lnTo>
                    <a:pt x="4" y="165"/>
                  </a:lnTo>
                  <a:lnTo>
                    <a:pt x="13" y="165"/>
                  </a:lnTo>
                  <a:lnTo>
                    <a:pt x="27" y="167"/>
                  </a:lnTo>
                  <a:lnTo>
                    <a:pt x="42" y="167"/>
                  </a:lnTo>
                  <a:lnTo>
                    <a:pt x="61" y="167"/>
                  </a:lnTo>
                  <a:lnTo>
                    <a:pt x="80" y="165"/>
                  </a:lnTo>
                  <a:lnTo>
                    <a:pt x="99" y="165"/>
                  </a:lnTo>
                  <a:lnTo>
                    <a:pt x="115" y="165"/>
                  </a:lnTo>
                  <a:lnTo>
                    <a:pt x="130" y="163"/>
                  </a:lnTo>
                  <a:lnTo>
                    <a:pt x="140" y="161"/>
                  </a:lnTo>
                  <a:lnTo>
                    <a:pt x="155" y="155"/>
                  </a:lnTo>
                  <a:lnTo>
                    <a:pt x="170" y="149"/>
                  </a:lnTo>
                  <a:lnTo>
                    <a:pt x="182" y="142"/>
                  </a:lnTo>
                  <a:lnTo>
                    <a:pt x="193" y="132"/>
                  </a:lnTo>
                  <a:lnTo>
                    <a:pt x="205" y="124"/>
                  </a:lnTo>
                  <a:lnTo>
                    <a:pt x="212" y="115"/>
                  </a:lnTo>
                  <a:lnTo>
                    <a:pt x="220" y="105"/>
                  </a:lnTo>
                  <a:lnTo>
                    <a:pt x="226" y="98"/>
                  </a:lnTo>
                  <a:lnTo>
                    <a:pt x="230" y="90"/>
                  </a:lnTo>
                  <a:lnTo>
                    <a:pt x="231" y="82"/>
                  </a:lnTo>
                  <a:lnTo>
                    <a:pt x="230" y="77"/>
                  </a:lnTo>
                  <a:lnTo>
                    <a:pt x="226" y="67"/>
                  </a:lnTo>
                  <a:lnTo>
                    <a:pt x="220" y="59"/>
                  </a:lnTo>
                  <a:lnTo>
                    <a:pt x="212" y="50"/>
                  </a:lnTo>
                  <a:lnTo>
                    <a:pt x="205" y="42"/>
                  </a:lnTo>
                  <a:lnTo>
                    <a:pt x="193" y="32"/>
                  </a:lnTo>
                  <a:lnTo>
                    <a:pt x="182" y="23"/>
                  </a:lnTo>
                  <a:lnTo>
                    <a:pt x="170" y="15"/>
                  </a:lnTo>
                  <a:lnTo>
                    <a:pt x="155" y="9"/>
                  </a:lnTo>
                  <a:lnTo>
                    <a:pt x="140" y="4"/>
                  </a:lnTo>
                  <a:lnTo>
                    <a:pt x="130" y="2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0" y="0"/>
                  </a:lnTo>
                  <a:lnTo>
                    <a:pt x="61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9"/>
                  </a:lnTo>
                  <a:lnTo>
                    <a:pt x="9" y="17"/>
                  </a:lnTo>
                  <a:lnTo>
                    <a:pt x="13" y="25"/>
                  </a:lnTo>
                  <a:lnTo>
                    <a:pt x="17" y="32"/>
                  </a:lnTo>
                  <a:lnTo>
                    <a:pt x="19" y="40"/>
                  </a:lnTo>
                  <a:lnTo>
                    <a:pt x="19" y="48"/>
                  </a:lnTo>
                  <a:lnTo>
                    <a:pt x="21" y="55"/>
                  </a:lnTo>
                  <a:lnTo>
                    <a:pt x="21" y="63"/>
                  </a:lnTo>
                  <a:lnTo>
                    <a:pt x="23" y="75"/>
                  </a:lnTo>
                  <a:lnTo>
                    <a:pt x="23" y="84"/>
                  </a:lnTo>
                  <a:lnTo>
                    <a:pt x="23" y="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23880" y="3034080"/>
              <a:ext cx="75600" cy="738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87240" y="3068640"/>
              <a:ext cx="17650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23880" y="3281400"/>
              <a:ext cx="7560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972160" y="3193560"/>
              <a:ext cx="339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08400" y="3542400"/>
              <a:ext cx="72720" cy="759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052720" y="3579120"/>
              <a:ext cx="3812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08400" y="3791520"/>
              <a:ext cx="72720" cy="738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162520" y="3826440"/>
              <a:ext cx="27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990160" y="3701520"/>
              <a:ext cx="323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4160" y="2971800"/>
              <a:ext cx="333720" cy="2367720"/>
            </a:xfrm>
            <a:custGeom>
              <a:avLst/>
              <a:gdLst/>
              <a:ahLst/>
              <a:rect l="l" t="t" r="r" b="b"/>
              <a:pathLst>
                <a:path w="146" h="1006">
                  <a:moveTo>
                    <a:pt x="0" y="71"/>
                  </a:moveTo>
                  <a:lnTo>
                    <a:pt x="2" y="59"/>
                  </a:lnTo>
                  <a:lnTo>
                    <a:pt x="6" y="48"/>
                  </a:lnTo>
                  <a:lnTo>
                    <a:pt x="10" y="38"/>
                  </a:lnTo>
                  <a:lnTo>
                    <a:pt x="15" y="29"/>
                  </a:lnTo>
                  <a:lnTo>
                    <a:pt x="23" y="21"/>
                  </a:lnTo>
                  <a:lnTo>
                    <a:pt x="31" y="13"/>
                  </a:lnTo>
                  <a:lnTo>
                    <a:pt x="40" y="7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6" y="4"/>
                  </a:lnTo>
                  <a:lnTo>
                    <a:pt x="107" y="7"/>
                  </a:lnTo>
                  <a:lnTo>
                    <a:pt x="117" y="13"/>
                  </a:lnTo>
                  <a:lnTo>
                    <a:pt x="125" y="21"/>
                  </a:lnTo>
                  <a:lnTo>
                    <a:pt x="132" y="29"/>
                  </a:lnTo>
                  <a:lnTo>
                    <a:pt x="138" y="38"/>
                  </a:lnTo>
                  <a:lnTo>
                    <a:pt x="142" y="48"/>
                  </a:lnTo>
                  <a:lnTo>
                    <a:pt x="144" y="59"/>
                  </a:lnTo>
                  <a:lnTo>
                    <a:pt x="146" y="71"/>
                  </a:lnTo>
                  <a:lnTo>
                    <a:pt x="146" y="933"/>
                  </a:lnTo>
                  <a:lnTo>
                    <a:pt x="144" y="945"/>
                  </a:lnTo>
                  <a:lnTo>
                    <a:pt x="142" y="956"/>
                  </a:lnTo>
                  <a:lnTo>
                    <a:pt x="138" y="966"/>
                  </a:lnTo>
                  <a:lnTo>
                    <a:pt x="132" y="975"/>
                  </a:lnTo>
                  <a:lnTo>
                    <a:pt x="125" y="985"/>
                  </a:lnTo>
                  <a:lnTo>
                    <a:pt x="117" y="991"/>
                  </a:lnTo>
                  <a:lnTo>
                    <a:pt x="107" y="998"/>
                  </a:lnTo>
                  <a:lnTo>
                    <a:pt x="96" y="1002"/>
                  </a:lnTo>
                  <a:lnTo>
                    <a:pt x="84" y="1004"/>
                  </a:lnTo>
                  <a:lnTo>
                    <a:pt x="73" y="1006"/>
                  </a:lnTo>
                  <a:lnTo>
                    <a:pt x="61" y="1004"/>
                  </a:lnTo>
                  <a:lnTo>
                    <a:pt x="52" y="1002"/>
                  </a:lnTo>
                  <a:lnTo>
                    <a:pt x="40" y="998"/>
                  </a:lnTo>
                  <a:lnTo>
                    <a:pt x="31" y="991"/>
                  </a:lnTo>
                  <a:lnTo>
                    <a:pt x="23" y="985"/>
                  </a:lnTo>
                  <a:lnTo>
                    <a:pt x="15" y="975"/>
                  </a:lnTo>
                  <a:lnTo>
                    <a:pt x="10" y="966"/>
                  </a:lnTo>
                  <a:lnTo>
                    <a:pt x="6" y="956"/>
                  </a:lnTo>
                  <a:lnTo>
                    <a:pt x="2" y="945"/>
                  </a:lnTo>
                  <a:lnTo>
                    <a:pt x="2" y="933"/>
                  </a:lnTo>
                  <a:lnTo>
                    <a:pt x="2" y="71"/>
                  </a:lnTo>
                  <a:lnTo>
                    <a:pt x="2" y="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5920" y="3105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8800" y="502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90880" y="4113000"/>
              <a:ext cx="73080" cy="80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648240" y="4154400"/>
              <a:ext cx="26928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18680" y="40618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23800" y="406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04440" y="4061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77880" y="4061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54920" y="40618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94520" y="4061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170880" y="220680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85360" y="22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68880" y="22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43040" y="22068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97400" y="22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77320" y="220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15840" y="22068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3640" y="22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27080" y="22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481200" y="2408040"/>
              <a:ext cx="2160" cy="4824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7360" y="2878920"/>
              <a:ext cx="72720" cy="784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0" y="0"/>
                  </a:moveTo>
                  <a:lnTo>
                    <a:pt x="0" y="2"/>
                  </a:lnTo>
                  <a:lnTo>
                    <a:pt x="15" y="3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25800" y="3791520"/>
              <a:ext cx="75600" cy="738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2"/>
                  </a:moveTo>
                  <a:lnTo>
                    <a:pt x="19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4400" y="296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16360" y="3034080"/>
              <a:ext cx="75600" cy="738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20" y="32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58800" y="361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92440" y="4357440"/>
              <a:ext cx="96840" cy="993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3" y="0"/>
                  </a:moveTo>
                  <a:lnTo>
                    <a:pt x="23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23" y="25"/>
                  </a:lnTo>
                  <a:lnTo>
                    <a:pt x="23" y="42"/>
                  </a:lnTo>
                  <a:lnTo>
                    <a:pt x="19" y="42"/>
                  </a:lnTo>
                  <a:lnTo>
                    <a:pt x="19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9" y="19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962080" y="4408200"/>
              <a:ext cx="35208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9720" y="4219200"/>
              <a:ext cx="74880" cy="759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39720" y="4521960"/>
              <a:ext cx="7488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836000" y="4558680"/>
              <a:ext cx="6318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62520" y="3320640"/>
              <a:ext cx="289800" cy="1242360"/>
            </a:xfrm>
            <a:custGeom>
              <a:avLst/>
              <a:gdLst/>
              <a:ahLst/>
              <a:rect l="l" t="t" r="r" b="b"/>
              <a:pathLst>
                <a:path w="126" h="528">
                  <a:moveTo>
                    <a:pt x="126" y="0"/>
                  </a:moveTo>
                  <a:lnTo>
                    <a:pt x="0" y="0"/>
                  </a:lnTo>
                  <a:lnTo>
                    <a:pt x="0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28680" y="4521960"/>
              <a:ext cx="7560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53080" y="3068640"/>
              <a:ext cx="399600" cy="1191600"/>
            </a:xfrm>
            <a:custGeom>
              <a:avLst/>
              <a:gdLst/>
              <a:ahLst/>
              <a:rect l="l" t="t" r="r" b="b"/>
              <a:pathLst>
                <a:path w="174" h="506">
                  <a:moveTo>
                    <a:pt x="0" y="0"/>
                  </a:moveTo>
                  <a:lnTo>
                    <a:pt x="0" y="506"/>
                  </a:lnTo>
                  <a:lnTo>
                    <a:pt x="174" y="5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16360" y="3542400"/>
              <a:ext cx="75600" cy="759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1"/>
                  </a:moveTo>
                  <a:lnTo>
                    <a:pt x="20" y="33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3" y="16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39960" y="2627640"/>
              <a:ext cx="357480" cy="1485000"/>
            </a:xfrm>
            <a:custGeom>
              <a:avLst/>
              <a:gdLst/>
              <a:ahLst/>
              <a:rect l="l" t="t" r="r" b="b"/>
              <a:pathLst>
                <a:path w="157" h="631">
                  <a:moveTo>
                    <a:pt x="157" y="0"/>
                  </a:moveTo>
                  <a:lnTo>
                    <a:pt x="157" y="577"/>
                  </a:lnTo>
                  <a:lnTo>
                    <a:pt x="0" y="577"/>
                  </a:lnTo>
                  <a:lnTo>
                    <a:pt x="0" y="6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03240" y="4096440"/>
              <a:ext cx="75600" cy="784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0" y="2"/>
                  </a:lnTo>
                  <a:lnTo>
                    <a:pt x="17" y="33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877480" y="2433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82600" y="2433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60360" y="2433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5000" y="2433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62240" y="243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35320" y="2435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2400" y="243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03240" y="5602680"/>
              <a:ext cx="75600" cy="784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737080" y="4634640"/>
              <a:ext cx="5040" cy="9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75360" y="57117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75440" y="57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50680" y="5709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02880" y="5709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51480" y="5709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26000" y="570924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40480" y="57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21120" y="5709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25400" y="4184640"/>
              <a:ext cx="436320" cy="450360"/>
            </a:xfrm>
            <a:custGeom>
              <a:avLst/>
              <a:gdLst/>
              <a:ahLst/>
              <a:rect l="l" t="t" r="r" b="b"/>
              <a:pathLst>
                <a:path w="191" h="191">
                  <a:moveTo>
                    <a:pt x="189" y="191"/>
                  </a:moveTo>
                  <a:lnTo>
                    <a:pt x="191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91" y="191"/>
                  </a:lnTo>
                  <a:lnTo>
                    <a:pt x="191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40040" y="4584240"/>
              <a:ext cx="248040" cy="29520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107" y="61"/>
                  </a:moveTo>
                  <a:lnTo>
                    <a:pt x="0" y="125"/>
                  </a:lnTo>
                  <a:lnTo>
                    <a:pt x="0" y="0"/>
                  </a:lnTo>
                  <a:lnTo>
                    <a:pt x="109" y="61"/>
                  </a:lnTo>
                  <a:lnTo>
                    <a:pt x="109" y="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11480" y="4697640"/>
              <a:ext cx="67320" cy="691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8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4" y="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11880" y="4396680"/>
              <a:ext cx="127800" cy="335160"/>
            </a:xfrm>
            <a:custGeom>
              <a:avLst/>
              <a:gdLst/>
              <a:ahLst/>
              <a:rect l="l" t="t" r="r" b="b"/>
              <a:pathLst>
                <a:path w="56" h="143">
                  <a:moveTo>
                    <a:pt x="56" y="141"/>
                  </a:move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6960" y="4170600"/>
              <a:ext cx="326520" cy="787680"/>
            </a:xfrm>
            <a:custGeom>
              <a:avLst/>
              <a:gdLst/>
              <a:ahLst/>
              <a:rect l="l" t="t" r="r" b="b"/>
              <a:pathLst>
                <a:path w="143" h="335">
                  <a:moveTo>
                    <a:pt x="0" y="71"/>
                  </a:moveTo>
                  <a:lnTo>
                    <a:pt x="1" y="59"/>
                  </a:lnTo>
                  <a:lnTo>
                    <a:pt x="3" y="48"/>
                  </a:lnTo>
                  <a:lnTo>
                    <a:pt x="9" y="38"/>
                  </a:lnTo>
                  <a:lnTo>
                    <a:pt x="15" y="29"/>
                  </a:lnTo>
                  <a:lnTo>
                    <a:pt x="21" y="21"/>
                  </a:lnTo>
                  <a:lnTo>
                    <a:pt x="30" y="13"/>
                  </a:lnTo>
                  <a:lnTo>
                    <a:pt x="40" y="7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5" y="2"/>
                  </a:lnTo>
                  <a:lnTo>
                    <a:pt x="105" y="7"/>
                  </a:lnTo>
                  <a:lnTo>
                    <a:pt x="114" y="13"/>
                  </a:lnTo>
                  <a:lnTo>
                    <a:pt x="122" y="21"/>
                  </a:lnTo>
                  <a:lnTo>
                    <a:pt x="130" y="29"/>
                  </a:lnTo>
                  <a:lnTo>
                    <a:pt x="135" y="38"/>
                  </a:lnTo>
                  <a:lnTo>
                    <a:pt x="141" y="48"/>
                  </a:lnTo>
                  <a:lnTo>
                    <a:pt x="143" y="59"/>
                  </a:lnTo>
                  <a:lnTo>
                    <a:pt x="143" y="71"/>
                  </a:lnTo>
                  <a:lnTo>
                    <a:pt x="143" y="262"/>
                  </a:lnTo>
                  <a:lnTo>
                    <a:pt x="143" y="274"/>
                  </a:lnTo>
                  <a:lnTo>
                    <a:pt x="141" y="285"/>
                  </a:lnTo>
                  <a:lnTo>
                    <a:pt x="135" y="295"/>
                  </a:lnTo>
                  <a:lnTo>
                    <a:pt x="130" y="305"/>
                  </a:lnTo>
                  <a:lnTo>
                    <a:pt x="122" y="314"/>
                  </a:lnTo>
                  <a:lnTo>
                    <a:pt x="114" y="320"/>
                  </a:lnTo>
                  <a:lnTo>
                    <a:pt x="105" y="326"/>
                  </a:lnTo>
                  <a:lnTo>
                    <a:pt x="95" y="331"/>
                  </a:lnTo>
                  <a:lnTo>
                    <a:pt x="84" y="333"/>
                  </a:lnTo>
                  <a:lnTo>
                    <a:pt x="72" y="335"/>
                  </a:lnTo>
                  <a:lnTo>
                    <a:pt x="61" y="333"/>
                  </a:lnTo>
                  <a:lnTo>
                    <a:pt x="49" y="331"/>
                  </a:lnTo>
                  <a:lnTo>
                    <a:pt x="40" y="326"/>
                  </a:lnTo>
                  <a:lnTo>
                    <a:pt x="30" y="320"/>
                  </a:lnTo>
                  <a:lnTo>
                    <a:pt x="21" y="314"/>
                  </a:lnTo>
                  <a:lnTo>
                    <a:pt x="15" y="305"/>
                  </a:lnTo>
                  <a:lnTo>
                    <a:pt x="9" y="295"/>
                  </a:lnTo>
                  <a:lnTo>
                    <a:pt x="3" y="285"/>
                  </a:lnTo>
                  <a:lnTo>
                    <a:pt x="1" y="274"/>
                  </a:lnTo>
                  <a:lnTo>
                    <a:pt x="0" y="262"/>
                  </a:lnTo>
                  <a:lnTo>
                    <a:pt x="0" y="71"/>
                  </a:lnTo>
                  <a:lnTo>
                    <a:pt x="0" y="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62040" y="430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64560" y="4641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91920" y="4392720"/>
              <a:ext cx="81468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79160" y="4727520"/>
              <a:ext cx="130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5160" y="4353120"/>
              <a:ext cx="73080" cy="784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41080" y="22050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46200" y="220500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75000" y="22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53120" y="2205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29080" y="220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9720" y="220500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59400" y="2205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9800" y="430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55920" y="4318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2280" y="502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7960" y="5022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2480" y="5022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7000" y="5022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33160" y="5076360"/>
              <a:ext cx="73080" cy="784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2" y="33"/>
                  </a:lnTo>
                  <a:lnTo>
                    <a:pt x="32" y="17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692280" y="5110920"/>
              <a:ext cx="25696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40" y="2747520"/>
              <a:ext cx="2952720" cy="2707200"/>
            </a:xfrm>
            <a:custGeom>
              <a:avLst/>
              <a:gdLst/>
              <a:ahLst/>
              <a:rect l="l" t="t" r="r" b="b"/>
              <a:pathLst>
                <a:path w="1294" h="1150">
                  <a:moveTo>
                    <a:pt x="1294" y="1148"/>
                  </a:moveTo>
                  <a:lnTo>
                    <a:pt x="1294" y="0"/>
                  </a:lnTo>
                  <a:lnTo>
                    <a:pt x="0" y="0"/>
                  </a:lnTo>
                  <a:lnTo>
                    <a:pt x="0" y="1150"/>
                  </a:lnTo>
                  <a:lnTo>
                    <a:pt x="1294" y="1150"/>
                  </a:lnTo>
                  <a:lnTo>
                    <a:pt x="1294" y="11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00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0360" y="569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296960" y="2095560"/>
            <a:ext cx="4523760" cy="3781080"/>
            <a:chOff x="4296960" y="2095560"/>
            <a:chExt cx="4523760" cy="3781080"/>
          </a:xfrm>
        </p:grpSpPr>
        <p:sp>
          <p:nvSpPr>
            <p:cNvPr id="418" name=""/>
            <p:cNvSpPr/>
            <p:nvPr/>
          </p:nvSpPr>
          <p:spPr>
            <a:xfrm>
              <a:off x="6684840" y="3263400"/>
              <a:ext cx="539640" cy="349560"/>
            </a:xfrm>
            <a:custGeom>
              <a:avLst/>
              <a:gdLst/>
              <a:ahLst/>
              <a:rect l="l" t="t" r="r" b="b"/>
              <a:pathLst>
                <a:path w="232" h="166">
                  <a:moveTo>
                    <a:pt x="21" y="84"/>
                  </a:moveTo>
                  <a:lnTo>
                    <a:pt x="21" y="95"/>
                  </a:lnTo>
                  <a:lnTo>
                    <a:pt x="21" y="105"/>
                  </a:lnTo>
                  <a:lnTo>
                    <a:pt x="19" y="115"/>
                  </a:lnTo>
                  <a:lnTo>
                    <a:pt x="19" y="120"/>
                  </a:lnTo>
                  <a:lnTo>
                    <a:pt x="17" y="128"/>
                  </a:lnTo>
                  <a:lnTo>
                    <a:pt x="15" y="134"/>
                  </a:lnTo>
                  <a:lnTo>
                    <a:pt x="13" y="141"/>
                  </a:lnTo>
                  <a:lnTo>
                    <a:pt x="10" y="149"/>
                  </a:lnTo>
                  <a:lnTo>
                    <a:pt x="4" y="157"/>
                  </a:lnTo>
                  <a:lnTo>
                    <a:pt x="0" y="166"/>
                  </a:lnTo>
                  <a:lnTo>
                    <a:pt x="2" y="166"/>
                  </a:lnTo>
                  <a:lnTo>
                    <a:pt x="11" y="166"/>
                  </a:lnTo>
                  <a:lnTo>
                    <a:pt x="25" y="166"/>
                  </a:lnTo>
                  <a:lnTo>
                    <a:pt x="42" y="166"/>
                  </a:lnTo>
                  <a:lnTo>
                    <a:pt x="59" y="166"/>
                  </a:lnTo>
                  <a:lnTo>
                    <a:pt x="78" y="166"/>
                  </a:lnTo>
                  <a:lnTo>
                    <a:pt x="98" y="166"/>
                  </a:lnTo>
                  <a:lnTo>
                    <a:pt x="115" y="164"/>
                  </a:lnTo>
                  <a:lnTo>
                    <a:pt x="128" y="162"/>
                  </a:lnTo>
                  <a:lnTo>
                    <a:pt x="138" y="162"/>
                  </a:lnTo>
                  <a:lnTo>
                    <a:pt x="153" y="157"/>
                  </a:lnTo>
                  <a:lnTo>
                    <a:pt x="168" y="149"/>
                  </a:lnTo>
                  <a:lnTo>
                    <a:pt x="182" y="141"/>
                  </a:lnTo>
                  <a:lnTo>
                    <a:pt x="193" y="134"/>
                  </a:lnTo>
                  <a:lnTo>
                    <a:pt x="203" y="124"/>
                  </a:lnTo>
                  <a:lnTo>
                    <a:pt x="211" y="115"/>
                  </a:lnTo>
                  <a:lnTo>
                    <a:pt x="218" y="107"/>
                  </a:lnTo>
                  <a:lnTo>
                    <a:pt x="224" y="97"/>
                  </a:lnTo>
                  <a:lnTo>
                    <a:pt x="228" y="90"/>
                  </a:lnTo>
                  <a:lnTo>
                    <a:pt x="232" y="84"/>
                  </a:lnTo>
                  <a:lnTo>
                    <a:pt x="228" y="76"/>
                  </a:lnTo>
                  <a:lnTo>
                    <a:pt x="224" y="69"/>
                  </a:lnTo>
                  <a:lnTo>
                    <a:pt x="218" y="59"/>
                  </a:lnTo>
                  <a:lnTo>
                    <a:pt x="211" y="51"/>
                  </a:lnTo>
                  <a:lnTo>
                    <a:pt x="203" y="42"/>
                  </a:lnTo>
                  <a:lnTo>
                    <a:pt x="193" y="32"/>
                  </a:lnTo>
                  <a:lnTo>
                    <a:pt x="182" y="24"/>
                  </a:lnTo>
                  <a:lnTo>
                    <a:pt x="168" y="17"/>
                  </a:lnTo>
                  <a:lnTo>
                    <a:pt x="153" y="9"/>
                  </a:lnTo>
                  <a:lnTo>
                    <a:pt x="138" y="3"/>
                  </a:lnTo>
                  <a:lnTo>
                    <a:pt x="128" y="3"/>
                  </a:lnTo>
                  <a:lnTo>
                    <a:pt x="115" y="1"/>
                  </a:lnTo>
                  <a:lnTo>
                    <a:pt x="98" y="0"/>
                  </a:lnTo>
                  <a:lnTo>
                    <a:pt x="78" y="0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9"/>
                  </a:lnTo>
                  <a:lnTo>
                    <a:pt x="10" y="17"/>
                  </a:lnTo>
                  <a:lnTo>
                    <a:pt x="13" y="26"/>
                  </a:lnTo>
                  <a:lnTo>
                    <a:pt x="15" y="32"/>
                  </a:lnTo>
                  <a:lnTo>
                    <a:pt x="17" y="40"/>
                  </a:lnTo>
                  <a:lnTo>
                    <a:pt x="19" y="47"/>
                  </a:lnTo>
                  <a:lnTo>
                    <a:pt x="19" y="55"/>
                  </a:lnTo>
                  <a:lnTo>
                    <a:pt x="21" y="65"/>
                  </a:lnTo>
                  <a:lnTo>
                    <a:pt x="21" y="74"/>
                  </a:lnTo>
                  <a:lnTo>
                    <a:pt x="21" y="86"/>
                  </a:lnTo>
                  <a:lnTo>
                    <a:pt x="21" y="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70160" y="3548880"/>
              <a:ext cx="285840" cy="1700280"/>
            </a:xfrm>
            <a:custGeom>
              <a:avLst/>
              <a:gdLst/>
              <a:ahLst/>
              <a:rect l="l" t="t" r="r" b="b"/>
              <a:pathLst>
                <a:path w="122" h="805">
                  <a:moveTo>
                    <a:pt x="120" y="805"/>
                  </a:moveTo>
                  <a:lnTo>
                    <a:pt x="12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16040" y="5230440"/>
              <a:ext cx="74160" cy="70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2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33440" y="3774600"/>
              <a:ext cx="76680" cy="70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6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870160" y="2275200"/>
              <a:ext cx="2880" cy="15033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8040" y="2805480"/>
              <a:ext cx="469800" cy="352080"/>
            </a:xfrm>
            <a:custGeom>
              <a:avLst/>
              <a:gdLst/>
              <a:ahLst/>
              <a:rect l="l" t="t" r="r" b="b"/>
              <a:pathLst>
                <a:path w="201" h="167">
                  <a:moveTo>
                    <a:pt x="121" y="167"/>
                  </a:moveTo>
                  <a:lnTo>
                    <a:pt x="134" y="167"/>
                  </a:lnTo>
                  <a:lnTo>
                    <a:pt x="146" y="163"/>
                  </a:lnTo>
                  <a:lnTo>
                    <a:pt x="159" y="159"/>
                  </a:lnTo>
                  <a:lnTo>
                    <a:pt x="169" y="151"/>
                  </a:lnTo>
                  <a:lnTo>
                    <a:pt x="178" y="144"/>
                  </a:lnTo>
                  <a:lnTo>
                    <a:pt x="186" y="134"/>
                  </a:lnTo>
                  <a:lnTo>
                    <a:pt x="193" y="123"/>
                  </a:lnTo>
                  <a:lnTo>
                    <a:pt x="197" y="111"/>
                  </a:lnTo>
                  <a:lnTo>
                    <a:pt x="201" y="98"/>
                  </a:lnTo>
                  <a:lnTo>
                    <a:pt x="201" y="84"/>
                  </a:lnTo>
                  <a:lnTo>
                    <a:pt x="201" y="71"/>
                  </a:lnTo>
                  <a:lnTo>
                    <a:pt x="197" y="57"/>
                  </a:lnTo>
                  <a:lnTo>
                    <a:pt x="193" y="46"/>
                  </a:lnTo>
                  <a:lnTo>
                    <a:pt x="186" y="34"/>
                  </a:lnTo>
                  <a:lnTo>
                    <a:pt x="178" y="25"/>
                  </a:lnTo>
                  <a:lnTo>
                    <a:pt x="169" y="17"/>
                  </a:lnTo>
                  <a:lnTo>
                    <a:pt x="159" y="10"/>
                  </a:lnTo>
                  <a:lnTo>
                    <a:pt x="146" y="4"/>
                  </a:lnTo>
                  <a:lnTo>
                    <a:pt x="134" y="2"/>
                  </a:lnTo>
                  <a:lnTo>
                    <a:pt x="121" y="0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121" y="167"/>
                  </a:lnTo>
                  <a:lnTo>
                    <a:pt x="121" y="1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44880" y="2832840"/>
              <a:ext cx="7488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0"/>
                  </a:moveTo>
                  <a:lnTo>
                    <a:pt x="0" y="33"/>
                  </a:lnTo>
                  <a:lnTo>
                    <a:pt x="3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869000" y="2865600"/>
              <a:ext cx="180000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44880" y="3056040"/>
              <a:ext cx="74880" cy="72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0" y="34"/>
                  </a:lnTo>
                  <a:lnTo>
                    <a:pt x="32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03240" y="2977200"/>
              <a:ext cx="35244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6160" y="3290040"/>
              <a:ext cx="77400" cy="70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268320" y="3321000"/>
              <a:ext cx="3844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6160" y="3511800"/>
              <a:ext cx="77400" cy="70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375600" y="3548880"/>
              <a:ext cx="277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221960" y="3435120"/>
              <a:ext cx="327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56040" y="2778840"/>
              <a:ext cx="335880" cy="2126880"/>
            </a:xfrm>
            <a:custGeom>
              <a:avLst/>
              <a:gdLst/>
              <a:ahLst/>
              <a:rect l="l" t="t" r="r" b="b"/>
              <a:pathLst>
                <a:path w="144" h="1007">
                  <a:moveTo>
                    <a:pt x="0" y="71"/>
                  </a:moveTo>
                  <a:lnTo>
                    <a:pt x="2" y="60"/>
                  </a:lnTo>
                  <a:lnTo>
                    <a:pt x="4" y="50"/>
                  </a:lnTo>
                  <a:lnTo>
                    <a:pt x="8" y="39"/>
                  </a:lnTo>
                  <a:lnTo>
                    <a:pt x="14" y="29"/>
                  </a:lnTo>
                  <a:lnTo>
                    <a:pt x="21" y="22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50" y="4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94" y="4"/>
                  </a:lnTo>
                  <a:lnTo>
                    <a:pt x="106" y="8"/>
                  </a:lnTo>
                  <a:lnTo>
                    <a:pt x="115" y="14"/>
                  </a:lnTo>
                  <a:lnTo>
                    <a:pt x="123" y="22"/>
                  </a:lnTo>
                  <a:lnTo>
                    <a:pt x="130" y="29"/>
                  </a:lnTo>
                  <a:lnTo>
                    <a:pt x="136" y="39"/>
                  </a:lnTo>
                  <a:lnTo>
                    <a:pt x="140" y="50"/>
                  </a:lnTo>
                  <a:lnTo>
                    <a:pt x="144" y="60"/>
                  </a:lnTo>
                  <a:lnTo>
                    <a:pt x="144" y="71"/>
                  </a:lnTo>
                  <a:lnTo>
                    <a:pt x="144" y="934"/>
                  </a:lnTo>
                  <a:lnTo>
                    <a:pt x="144" y="945"/>
                  </a:lnTo>
                  <a:lnTo>
                    <a:pt x="140" y="957"/>
                  </a:lnTo>
                  <a:lnTo>
                    <a:pt x="136" y="968"/>
                  </a:lnTo>
                  <a:lnTo>
                    <a:pt x="130" y="978"/>
                  </a:lnTo>
                  <a:lnTo>
                    <a:pt x="123" y="986"/>
                  </a:lnTo>
                  <a:lnTo>
                    <a:pt x="115" y="993"/>
                  </a:lnTo>
                  <a:lnTo>
                    <a:pt x="106" y="999"/>
                  </a:lnTo>
                  <a:lnTo>
                    <a:pt x="94" y="1003"/>
                  </a:lnTo>
                  <a:lnTo>
                    <a:pt x="85" y="1005"/>
                  </a:lnTo>
                  <a:lnTo>
                    <a:pt x="73" y="1007"/>
                  </a:lnTo>
                  <a:lnTo>
                    <a:pt x="60" y="1005"/>
                  </a:lnTo>
                  <a:lnTo>
                    <a:pt x="50" y="1003"/>
                  </a:lnTo>
                  <a:lnTo>
                    <a:pt x="39" y="999"/>
                  </a:lnTo>
                  <a:lnTo>
                    <a:pt x="29" y="993"/>
                  </a:lnTo>
                  <a:lnTo>
                    <a:pt x="21" y="986"/>
                  </a:lnTo>
                  <a:lnTo>
                    <a:pt x="14" y="978"/>
                  </a:lnTo>
                  <a:lnTo>
                    <a:pt x="8" y="968"/>
                  </a:lnTo>
                  <a:lnTo>
                    <a:pt x="4" y="957"/>
                  </a:lnTo>
                  <a:lnTo>
                    <a:pt x="2" y="945"/>
                  </a:lnTo>
                  <a:lnTo>
                    <a:pt x="0" y="934"/>
                  </a:lnTo>
                  <a:lnTo>
                    <a:pt x="0" y="71"/>
                  </a:lnTo>
                  <a:lnTo>
                    <a:pt x="0" y="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594200" y="290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94200" y="4622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41040" y="3808080"/>
              <a:ext cx="76680" cy="68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892280" y="3840840"/>
              <a:ext cx="2779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71360" y="37623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76840" y="376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7840" y="3762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36680" y="3762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615880" y="3762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650800" y="3762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06280" y="209556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2040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0608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85640" y="20955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3964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17400" y="2095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55200" y="20955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9192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77600" y="209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721280" y="2275200"/>
              <a:ext cx="2880" cy="4327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86720" y="2699640"/>
              <a:ext cx="74160" cy="684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0" y="0"/>
                  </a:moveTo>
                  <a:lnTo>
                    <a:pt x="0" y="2"/>
                  </a:lnTo>
                  <a:lnTo>
                    <a:pt x="17" y="3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40320" y="3516120"/>
              <a:ext cx="74880" cy="6588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30400" y="277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28360" y="2832840"/>
              <a:ext cx="74880" cy="68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94200" y="3356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17400" y="4027320"/>
              <a:ext cx="986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3" y="0"/>
                  </a:moveTo>
                  <a:lnTo>
                    <a:pt x="23" y="17"/>
                  </a:lnTo>
                  <a:lnTo>
                    <a:pt x="42" y="17"/>
                  </a:lnTo>
                  <a:lnTo>
                    <a:pt x="42" y="23"/>
                  </a:lnTo>
                  <a:lnTo>
                    <a:pt x="23" y="23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9" y="23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186680" y="4066920"/>
              <a:ext cx="36324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56040" y="3899160"/>
              <a:ext cx="77400" cy="70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56040" y="4168080"/>
              <a:ext cx="77400" cy="658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038280" y="4203360"/>
              <a:ext cx="646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80280" y="3091320"/>
              <a:ext cx="288720" cy="1112040"/>
            </a:xfrm>
            <a:custGeom>
              <a:avLst/>
              <a:gdLst/>
              <a:ahLst/>
              <a:rect l="l" t="t" r="r" b="b"/>
              <a:pathLst>
                <a:path w="124" h="527">
                  <a:moveTo>
                    <a:pt x="124" y="0"/>
                  </a:moveTo>
                  <a:lnTo>
                    <a:pt x="0" y="0"/>
                  </a:lnTo>
                  <a:lnTo>
                    <a:pt x="0" y="5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40320" y="4172400"/>
              <a:ext cx="74880" cy="619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5" y="30"/>
                  </a:moveTo>
                  <a:lnTo>
                    <a:pt x="19" y="30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62920" y="3934440"/>
              <a:ext cx="411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28360" y="3290040"/>
              <a:ext cx="74880" cy="70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65280" y="2474280"/>
              <a:ext cx="368640" cy="1329120"/>
            </a:xfrm>
            <a:custGeom>
              <a:avLst/>
              <a:gdLst/>
              <a:ahLst/>
              <a:rect l="l" t="t" r="r" b="b"/>
              <a:pathLst>
                <a:path w="158" h="630">
                  <a:moveTo>
                    <a:pt x="157" y="0"/>
                  </a:moveTo>
                  <a:lnTo>
                    <a:pt x="158" y="577"/>
                  </a:lnTo>
                  <a:lnTo>
                    <a:pt x="0" y="577"/>
                  </a:lnTo>
                  <a:lnTo>
                    <a:pt x="0" y="6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25320" y="3787560"/>
              <a:ext cx="74880" cy="68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0" y="2"/>
                  </a:lnTo>
                  <a:lnTo>
                    <a:pt x="18" y="3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108920" y="23000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16200" y="230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96840" y="2300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47600" y="2298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00160" y="2298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70360" y="2298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16800" y="229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25320" y="5230440"/>
              <a:ext cx="74880" cy="70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0" y="0"/>
                  </a:lnTo>
                  <a:lnTo>
                    <a:pt x="18" y="3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41360" y="3868200"/>
              <a:ext cx="445680" cy="405720"/>
            </a:xfrm>
            <a:custGeom>
              <a:avLst/>
              <a:gdLst/>
              <a:ahLst/>
              <a:rect l="l" t="t" r="r" b="b"/>
              <a:pathLst>
                <a:path w="191" h="192">
                  <a:moveTo>
                    <a:pt x="191" y="190"/>
                  </a:moveTo>
                  <a:lnTo>
                    <a:pt x="191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91" y="192"/>
                  </a:lnTo>
                  <a:lnTo>
                    <a:pt x="191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26480" y="4224240"/>
              <a:ext cx="251280" cy="267120"/>
            </a:xfrm>
            <a:custGeom>
              <a:avLst/>
              <a:gdLst/>
              <a:ahLst/>
              <a:rect l="l" t="t" r="r" b="b"/>
              <a:pathLst>
                <a:path w="107" h="126">
                  <a:moveTo>
                    <a:pt x="105" y="61"/>
                  </a:moveTo>
                  <a:lnTo>
                    <a:pt x="0" y="126"/>
                  </a:lnTo>
                  <a:lnTo>
                    <a:pt x="0" y="0"/>
                  </a:lnTo>
                  <a:lnTo>
                    <a:pt x="107" y="63"/>
                  </a:lnTo>
                  <a:lnTo>
                    <a:pt x="107" y="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04400" y="4325400"/>
              <a:ext cx="66600" cy="597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3" y="28"/>
                  </a:moveTo>
                  <a:lnTo>
                    <a:pt x="17" y="28"/>
                  </a:lnTo>
                  <a:lnTo>
                    <a:pt x="19" y="28"/>
                  </a:lnTo>
                  <a:lnTo>
                    <a:pt x="21" y="28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6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8" y="11"/>
                  </a:lnTo>
                  <a:lnTo>
                    <a:pt x="28" y="9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5" y="28"/>
                  </a:lnTo>
                  <a:lnTo>
                    <a:pt x="15" y="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95440" y="4053960"/>
              <a:ext cx="125640" cy="304560"/>
            </a:xfrm>
            <a:custGeom>
              <a:avLst/>
              <a:gdLst/>
              <a:ahLst/>
              <a:rect l="l" t="t" r="r" b="b"/>
              <a:pathLst>
                <a:path w="54" h="144">
                  <a:moveTo>
                    <a:pt x="54" y="142"/>
                  </a:move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99520" y="3851280"/>
              <a:ext cx="339120" cy="708120"/>
            </a:xfrm>
            <a:custGeom>
              <a:avLst/>
              <a:gdLst/>
              <a:ahLst/>
              <a:rect l="l" t="t" r="r" b="b"/>
              <a:pathLst>
                <a:path w="145" h="336">
                  <a:moveTo>
                    <a:pt x="0" y="71"/>
                  </a:moveTo>
                  <a:lnTo>
                    <a:pt x="2" y="60"/>
                  </a:lnTo>
                  <a:lnTo>
                    <a:pt x="6" y="48"/>
                  </a:lnTo>
                  <a:lnTo>
                    <a:pt x="9" y="39"/>
                  </a:lnTo>
                  <a:lnTo>
                    <a:pt x="15" y="29"/>
                  </a:lnTo>
                  <a:lnTo>
                    <a:pt x="23" y="21"/>
                  </a:lnTo>
                  <a:lnTo>
                    <a:pt x="30" y="14"/>
                  </a:lnTo>
                  <a:lnTo>
                    <a:pt x="40" y="8"/>
                  </a:lnTo>
                  <a:lnTo>
                    <a:pt x="50" y="4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6" y="4"/>
                  </a:lnTo>
                  <a:lnTo>
                    <a:pt x="105" y="8"/>
                  </a:lnTo>
                  <a:lnTo>
                    <a:pt x="115" y="14"/>
                  </a:lnTo>
                  <a:lnTo>
                    <a:pt x="124" y="21"/>
                  </a:lnTo>
                  <a:lnTo>
                    <a:pt x="130" y="29"/>
                  </a:lnTo>
                  <a:lnTo>
                    <a:pt x="136" y="39"/>
                  </a:lnTo>
                  <a:lnTo>
                    <a:pt x="141" y="48"/>
                  </a:lnTo>
                  <a:lnTo>
                    <a:pt x="143" y="60"/>
                  </a:lnTo>
                  <a:lnTo>
                    <a:pt x="145" y="71"/>
                  </a:lnTo>
                  <a:lnTo>
                    <a:pt x="145" y="263"/>
                  </a:lnTo>
                  <a:lnTo>
                    <a:pt x="143" y="275"/>
                  </a:lnTo>
                  <a:lnTo>
                    <a:pt x="141" y="286"/>
                  </a:lnTo>
                  <a:lnTo>
                    <a:pt x="136" y="296"/>
                  </a:lnTo>
                  <a:lnTo>
                    <a:pt x="130" y="305"/>
                  </a:lnTo>
                  <a:lnTo>
                    <a:pt x="124" y="315"/>
                  </a:lnTo>
                  <a:lnTo>
                    <a:pt x="115" y="321"/>
                  </a:lnTo>
                  <a:lnTo>
                    <a:pt x="105" y="328"/>
                  </a:lnTo>
                  <a:lnTo>
                    <a:pt x="96" y="332"/>
                  </a:lnTo>
                  <a:lnTo>
                    <a:pt x="84" y="334"/>
                  </a:lnTo>
                  <a:lnTo>
                    <a:pt x="73" y="336"/>
                  </a:lnTo>
                  <a:lnTo>
                    <a:pt x="61" y="334"/>
                  </a:lnTo>
                  <a:lnTo>
                    <a:pt x="50" y="332"/>
                  </a:lnTo>
                  <a:lnTo>
                    <a:pt x="40" y="328"/>
                  </a:lnTo>
                  <a:lnTo>
                    <a:pt x="30" y="321"/>
                  </a:lnTo>
                  <a:lnTo>
                    <a:pt x="23" y="315"/>
                  </a:lnTo>
                  <a:lnTo>
                    <a:pt x="15" y="305"/>
                  </a:lnTo>
                  <a:lnTo>
                    <a:pt x="9" y="296"/>
                  </a:lnTo>
                  <a:lnTo>
                    <a:pt x="6" y="286"/>
                  </a:lnTo>
                  <a:lnTo>
                    <a:pt x="2" y="275"/>
                  </a:lnTo>
                  <a:lnTo>
                    <a:pt x="2" y="263"/>
                  </a:lnTo>
                  <a:lnTo>
                    <a:pt x="2" y="71"/>
                  </a:lnTo>
                  <a:lnTo>
                    <a:pt x="2" y="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36240" y="3973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6240" y="42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4873320" y="4050360"/>
              <a:ext cx="82548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71000" y="4354560"/>
              <a:ext cx="13356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55480" y="4019040"/>
              <a:ext cx="77400" cy="68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5880" y="2097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44880" y="20973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74760" y="2097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1520" y="2097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31360" y="2097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17400" y="2097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67800" y="2097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26440" y="3971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94200" y="399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03240" y="461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86040" y="4619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70280" y="461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39760" y="4619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70720" y="4665240"/>
              <a:ext cx="74160" cy="68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0"/>
                  </a:moveTo>
                  <a:lnTo>
                    <a:pt x="0" y="32"/>
                  </a:lnTo>
                  <a:lnTo>
                    <a:pt x="3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873320" y="4698360"/>
              <a:ext cx="262332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4800" y="4035960"/>
              <a:ext cx="69480" cy="658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15" y="32"/>
                  </a:moveTo>
                  <a:lnTo>
                    <a:pt x="17" y="32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29" y="23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9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49760" y="4172400"/>
              <a:ext cx="77400" cy="619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28360" y="3899160"/>
              <a:ext cx="74880" cy="70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28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7" y="29"/>
                  </a:lnTo>
                  <a:lnTo>
                    <a:pt x="9" y="31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64800" y="4971600"/>
              <a:ext cx="69480" cy="658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5" y="31"/>
                  </a:moveTo>
                  <a:lnTo>
                    <a:pt x="17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41040" y="4967640"/>
              <a:ext cx="76680" cy="70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298640" y="5000760"/>
              <a:ext cx="870840" cy="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67400" y="492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70000" y="4928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2080" y="4928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53000" y="537768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61360" y="5377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39120" y="53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21560" y="53776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70520" y="5377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11920" y="53776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44680" y="53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28200" y="5377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23840" y="553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07000" y="553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91240" y="5538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28680" y="553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08600" y="5538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85280" y="5538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29200" y="55389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63400" y="553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8280" y="5538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38640" y="5307120"/>
              <a:ext cx="1373040" cy="461880"/>
            </a:xfrm>
            <a:custGeom>
              <a:avLst/>
              <a:gdLst/>
              <a:ahLst/>
              <a:rect l="l" t="t" r="r" b="b"/>
              <a:pathLst>
                <a:path w="588" h="219">
                  <a:moveTo>
                    <a:pt x="588" y="219"/>
                  </a:moveTo>
                  <a:lnTo>
                    <a:pt x="588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88" y="219"/>
                  </a:lnTo>
                  <a:lnTo>
                    <a:pt x="588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35640" y="5501880"/>
              <a:ext cx="77400" cy="70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8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7411680" y="5538960"/>
              <a:ext cx="7581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74240" y="546048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85840" y="54604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58200" y="5460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537760" y="54604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95000" y="5460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633880" y="546048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670600" y="5460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46920" y="54604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62280" y="5232960"/>
              <a:ext cx="68760" cy="702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30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44360" y="5232960"/>
              <a:ext cx="77400" cy="70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6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22600" y="5232960"/>
              <a:ext cx="77400" cy="70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2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957360" y="4273920"/>
              <a:ext cx="5400" cy="9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96840" y="4066920"/>
              <a:ext cx="2160" cy="118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62920" y="2865600"/>
              <a:ext cx="5400" cy="238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7560" y="4203360"/>
              <a:ext cx="0" cy="10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80960" y="2580120"/>
              <a:ext cx="3023640" cy="3290400"/>
            </a:xfrm>
            <a:custGeom>
              <a:avLst/>
              <a:gdLst/>
              <a:ahLst/>
              <a:rect l="l" t="t" r="r" b="b"/>
              <a:pathLst>
                <a:path w="1295" h="1560">
                  <a:moveTo>
                    <a:pt x="1293" y="1560"/>
                  </a:moveTo>
                  <a:lnTo>
                    <a:pt x="1295" y="0"/>
                  </a:lnTo>
                  <a:lnTo>
                    <a:pt x="0" y="0"/>
                  </a:lnTo>
                  <a:lnTo>
                    <a:pt x="0" y="1560"/>
                  </a:lnTo>
                  <a:lnTo>
                    <a:pt x="1295" y="1560"/>
                  </a:lnTo>
                  <a:lnTo>
                    <a:pt x="1295" y="156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27680" y="3516120"/>
              <a:ext cx="77400" cy="658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96960" y="575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74360" y="575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482920" y="549360"/>
            <a:ext cx="396072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itme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357280" y="1839960"/>
            <a:ext cx="4735080" cy="3675600"/>
            <a:chOff x="2357280" y="1839960"/>
            <a:chExt cx="4735080" cy="3675600"/>
          </a:xfrm>
        </p:grpSpPr>
        <p:grpSp>
          <p:nvGrpSpPr>
            <p:cNvPr id="159" name=""/>
            <p:cNvGrpSpPr/>
            <p:nvPr/>
          </p:nvGrpSpPr>
          <p:grpSpPr>
            <a:xfrm>
              <a:off x="2357280" y="1839960"/>
              <a:ext cx="4735080" cy="3675600"/>
              <a:chOff x="2357280" y="1839960"/>
              <a:chExt cx="4735080" cy="3675600"/>
            </a:xfrm>
          </p:grpSpPr>
          <p:sp>
            <p:nvSpPr>
              <p:cNvPr id="160" name=""/>
              <p:cNvSpPr/>
              <p:nvPr/>
            </p:nvSpPr>
            <p:spPr>
              <a:xfrm>
                <a:off x="3869640" y="2905560"/>
                <a:ext cx="884880" cy="2470680"/>
              </a:xfrm>
              <a:custGeom>
                <a:avLst/>
                <a:gdLst/>
                <a:ahLst/>
                <a:rect l="l" t="t" r="r" b="b"/>
                <a:pathLst>
                  <a:path w="388" h="1099">
                    <a:moveTo>
                      <a:pt x="0" y="0"/>
                    </a:moveTo>
                    <a:lnTo>
                      <a:pt x="0" y="427"/>
                    </a:lnTo>
                    <a:lnTo>
                      <a:pt x="111" y="553"/>
                    </a:lnTo>
                    <a:lnTo>
                      <a:pt x="0" y="671"/>
                    </a:lnTo>
                    <a:lnTo>
                      <a:pt x="0" y="1098"/>
                    </a:lnTo>
                    <a:lnTo>
                      <a:pt x="387" y="790"/>
                    </a:lnTo>
                    <a:lnTo>
                      <a:pt x="387" y="30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676600" y="4983120"/>
                <a:ext cx="1112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84040" y="4184640"/>
                <a:ext cx="111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55280" y="2298240"/>
                <a:ext cx="0" cy="9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60760" y="3366360"/>
                <a:ext cx="111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984040" y="3238200"/>
                <a:ext cx="17532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72360" y="3525840"/>
                <a:ext cx="84600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772360" y="4836960"/>
                <a:ext cx="845640" cy="678600"/>
                <a:chOff x="2772360" y="4836960"/>
                <a:chExt cx="845640" cy="678600"/>
              </a:xfrm>
            </p:grpSpPr>
            <p:sp>
              <p:nvSpPr>
                <p:cNvPr id="168" name=""/>
                <p:cNvSpPr/>
                <p:nvPr/>
              </p:nvSpPr>
              <p:spPr>
                <a:xfrm flipH="1">
                  <a:off x="2984040" y="4836960"/>
                  <a:ext cx="174960" cy="29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772360" y="5124240"/>
                  <a:ext cx="845640" cy="39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199"/>
                    </a:lnSpc>
                    <a:tabLst>
                      <a:tab algn="l" pos="0"/>
                      <a:tab algn="l" pos="452520"/>
                      <a:tab algn="l" pos="905040"/>
                      <a:tab algn="l" pos="1357200"/>
                      <a:tab algn="l" pos="1809720"/>
                      <a:tab algn="l" pos="2714760"/>
                      <a:tab algn="l" pos="3619440"/>
                      <a:tab algn="l" pos="4524480"/>
                      <a:tab algn="l" pos="5429160"/>
                      <a:tab algn="l" pos="6334200"/>
                      <a:tab algn="l" pos="7238880"/>
                      <a:tab algn="l" pos="8143920"/>
                      <a:tab algn="l" pos="9048600"/>
                      <a:tab algn="l" pos="9953640"/>
                      <a:tab algn="l" pos="108586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039640" y="4038480"/>
                <a:ext cx="845640" cy="678240"/>
                <a:chOff x="5039640" y="4038480"/>
                <a:chExt cx="845640" cy="678240"/>
              </a:xfrm>
            </p:grpSpPr>
            <p:sp>
              <p:nvSpPr>
                <p:cNvPr id="171" name=""/>
                <p:cNvSpPr/>
                <p:nvPr/>
              </p:nvSpPr>
              <p:spPr>
                <a:xfrm flipH="1">
                  <a:off x="5251320" y="4038480"/>
                  <a:ext cx="175680" cy="29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039640" y="4326120"/>
                  <a:ext cx="84564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199"/>
                    </a:lnSpc>
                    <a:tabLst>
                      <a:tab algn="l" pos="0"/>
                      <a:tab algn="l" pos="452520"/>
                      <a:tab algn="l" pos="905040"/>
                      <a:tab algn="l" pos="1357200"/>
                      <a:tab algn="l" pos="1809720"/>
                      <a:tab algn="l" pos="2714760"/>
                      <a:tab algn="l" pos="3619440"/>
                      <a:tab algn="l" pos="4524480"/>
                      <a:tab algn="l" pos="5429160"/>
                      <a:tab algn="l" pos="6334200"/>
                      <a:tab algn="l" pos="7238880"/>
                      <a:tab algn="l" pos="8143920"/>
                      <a:tab algn="l" pos="9048600"/>
                      <a:tab algn="l" pos="9953640"/>
                      <a:tab algn="l" pos="108586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207320" y="2563920"/>
                <a:ext cx="300960" cy="1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976560" y="1839960"/>
                <a:ext cx="1692360" cy="70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oper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956560" y="3847680"/>
                <a:ext cx="1135800" cy="70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esul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57280" y="3011040"/>
                <a:ext cx="720720" cy="71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57280" y="4609800"/>
                <a:ext cx="720720" cy="70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452520"/>
                    <a:tab algn="l" pos="905040"/>
                    <a:tab algn="l" pos="135720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958560" y="3524040"/>
              <a:ext cx="102600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st per l’uguaglianz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11840" y="1770120"/>
            <a:ext cx="7907760" cy="408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lori per le linee di controllo:</a:t>
            </a:r>
            <a:br>
              <a:rPr sz="2000"/>
            </a:br>
            <a:br>
              <a:rPr sz="2000"/>
            </a:b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000 = and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001 = or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010 = add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10 = subtract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111 = slt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0320" y="5734080"/>
            <a:ext cx="4315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a: la linea zero è 1 quando il risultato è zer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200480" y="1292400"/>
            <a:ext cx="425916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5360" y="312840"/>
            <a:ext cx="1416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8120" y="1880280"/>
            <a:ext cx="818568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it non hanno significato propri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le procedure di conversione definiscono le relazioni tra bit e num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 binari : 0000 0001 0010 0011 0100 0101 0110 0111 1000 1001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i:  0...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roblemi coinvolti nella rappresentazione sono molti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 rappresentabili sono finiti (overflow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resentare numeri reali e frazion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 negativ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umer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5360" y="312840"/>
            <a:ext cx="379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8120" y="1880280"/>
            <a:ext cx="790776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ulo e Segno         Complemento a 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00 = +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00 = +0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01 = +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01 = +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10 = +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10 = +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11 = +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11 = +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 = -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 = 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1 = 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1 = -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0 = -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0 = -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1 = -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1 = -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e è il migliore e perché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sibili Rappresentazion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5360" y="312840"/>
            <a:ext cx="85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18120" y="1880280"/>
            <a:ext cx="790776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umeri a 32 bit con segno:</a:t>
            </a:r>
            <a:br>
              <a:rPr sz="2200"/>
            </a:br>
            <a:br>
              <a:rPr sz="22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0000 0000 0000 0000 0000 0000 0000 0000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0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0000 0000 0000 0000 0000 0000 0000 0001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+ 1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0000 0000 0000 0000 0000 0000 0000 0010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+ 2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0111 1111 1111 1111 1111 1111 1111 1110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+ 2,147,483,646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0111 1111 1111 1111 1111 1111 1111 1111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+ 2,147,483,647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1000 0000 0000 0000 0000 0000 0000 0000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– 2,147,483,648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1000 0000 0000 0000 0000 0000 0000 0001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– 2,147,483,647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1000 0000 0000 0000 0000 0000 0000 0010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– 2,147,483,646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1111 1111 1111 1111 1111 1111 1111 1101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– 3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1111 1111 1111 1111 1111 1111 1111 1110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– 2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1111 1111 1111 1111 1111 1111 1111 1111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it-IT" sz="1700" spc="-1" strike="noStrike">
                <a:solidFill>
                  <a:srgbClr val="000000"/>
                </a:solidFill>
                <a:latin typeface="Courier New"/>
              </a:rPr>
              <a:t> = – 1</a:t>
            </a:r>
            <a:r>
              <a:rPr b="0" lang="it-IT" sz="17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415280" y="2697120"/>
            <a:ext cx="1157400" cy="389160"/>
            <a:chOff x="7415280" y="2697120"/>
            <a:chExt cx="1157400" cy="389160"/>
          </a:xfrm>
        </p:grpSpPr>
        <p:sp>
          <p:nvSpPr>
            <p:cNvPr id="188" name=""/>
            <p:cNvSpPr/>
            <p:nvPr/>
          </p:nvSpPr>
          <p:spPr>
            <a:xfrm>
              <a:off x="7709040" y="2697120"/>
              <a:ext cx="8636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Times New Roman"/>
                </a:rPr>
                <a:t>max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415280" y="2931840"/>
              <a:ext cx="20952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416720" y="3249720"/>
            <a:ext cx="1042920" cy="388800"/>
            <a:chOff x="7416720" y="3249720"/>
            <a:chExt cx="1042920" cy="388800"/>
          </a:xfrm>
        </p:grpSpPr>
        <p:sp>
          <p:nvSpPr>
            <p:cNvPr id="191" name=""/>
            <p:cNvSpPr/>
            <p:nvPr/>
          </p:nvSpPr>
          <p:spPr>
            <a:xfrm>
              <a:off x="7645320" y="3249720"/>
              <a:ext cx="8143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2520"/>
                  <a:tab algn="l" pos="905040"/>
                  <a:tab algn="l" pos="135720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i="1" lang="it-IT" sz="1800" spc="-1" strike="noStrike">
                  <a:solidFill>
                    <a:srgbClr val="000000"/>
                  </a:solidFill>
                  <a:latin typeface="Times New Roman"/>
                </a:rPr>
                <a:t>min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16720" y="3321000"/>
              <a:ext cx="20952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5360" y="312840"/>
            <a:ext cx="453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18120" y="1880280"/>
            <a:ext cx="7907760" cy="40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 negare un numero in complemento a 2:  si invertono tutti i bit e si somma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13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3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ire un numero ad n bit in un numero con più di n b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13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numeri a 16 bit vengono immediatamente convertiti a 32 bit per l’aritme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13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a il bit più significativ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10  -&gt; 0000 001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10  -&gt; 1111 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13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nsione in segno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perazioni in Complemento a 2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2280" y="1336680"/>
            <a:ext cx="7993800" cy="492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Uguale alla somma decimale  (riporto/prestito di 1)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0110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+ 0110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- 0110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- 0101</a:t>
            </a:r>
            <a:br>
              <a:rPr sz="2200"/>
            </a:b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 il complemento a 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11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ottrazione viene effettuata sommando l’oppost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0111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ourier New"/>
              </a:rPr>
              <a:t>+ 1010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br>
              <a:rPr sz="2000"/>
            </a:b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verf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11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omma di due numeri a n bit non necessariamente porta a numeri a n 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ourier New"/>
              </a:rPr>
              <a:t>+ 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ddizione &amp; Sottrazi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2280" y="1336680"/>
            <a:ext cx="7993800" cy="492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’Overflow è una condizione di errore: il risultato di una operazione di somma o sottrazione non è rappresenta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e sommiamo due numeri positiv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0011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+ 0001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Il penultimo riporto è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0100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l’ultimo riporto è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0111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+ 0001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Il penultimo riporto è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1000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l’ultimo riporto è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Controllare l’Over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5360" y="312840"/>
            <a:ext cx="339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2280" y="1336680"/>
            <a:ext cx="7993800" cy="492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sommiamo due numeri negativ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11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+ 1001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l penultimo riporto è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’ultimo riporto è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+ 1001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l penultimo riporto è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10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’ultimo riporto è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Controllare l’Over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21:11:46Z</dcterms:created>
  <dc:creator>Alberto Negro</dc:creator>
  <dc:description/>
  <dc:language>en-US</dc:language>
  <cp:lastModifiedBy>Alberto Negro</cp:lastModifiedBy>
  <dcterms:modified xsi:type="dcterms:W3CDTF">2003-10-13T10:34:33Z</dcterms:modified>
  <cp:revision>20</cp:revision>
  <dc:subject/>
  <dc:title>Arithmetic</dc:title>
</cp:coreProperties>
</file>